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D66-0891-481C-92DF-506A94C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ADE-9D05-458D-AD1C-2EA4E4BF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043-BC9A-4FE8-B486-1F666AB4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3B3-F043-4873-AF20-4B999308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FF7-CE77-498F-96D9-8E69683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1DD-0714-48CC-83D2-7502166A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B72-D535-44C1-A869-E574FF9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94D-B152-4B66-B8B8-61F51517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2EA-4F7C-40D9-ABC2-64E85C1E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7D5-6509-40AD-B691-6A1B2C55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5D0-9ABF-4F31-9B70-3BF2411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A9A-5A9C-48B3-98FB-6380AC28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8B10-5A08-41B3-AB13-0C54D3DCF2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4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7 November 2011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1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1-10-20T13:13:13Z</dcterms:modified>
  <cp:revision>62</cp:revision>
  <dc:subject/>
  <dc:title>No Slide Title</dc:title>
</cp:coreProperties>
</file>